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929-FC12-494B-BE76-F05CD267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8232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23600" y="3986640"/>
            <a:ext cx="8232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B97-1E22-4088-8A9F-DDAEB0B2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42440" y="152352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23600" y="398664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842440" y="398664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B3C-F5D2-40B4-A14F-B52BDBCC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2650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07120" y="1523520"/>
            <a:ext cx="2650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90640" y="1523520"/>
            <a:ext cx="2650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623600" y="3986640"/>
            <a:ext cx="2650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407120" y="3986640"/>
            <a:ext cx="2650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7190640" y="3986640"/>
            <a:ext cx="2650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C83-7506-4281-AF4E-BF75BE1F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A992-5CEA-4F95-8F80-09ECA49D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3600" y="152352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A6A9-76DE-42E2-A4B6-581217FF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A15D-7C33-462A-B198-28CA6DB0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4017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842440" y="1523520"/>
            <a:ext cx="4017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87D8-4AA7-4C49-80BB-2D2926E0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A802-FC72-4602-AF00-6207198B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23600" y="228240"/>
            <a:ext cx="823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7FF9-A574-49DE-B635-C6E73AA2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842440" y="1523520"/>
            <a:ext cx="4017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23600" y="398664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68AE-CFBC-479F-B360-3584CA53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623600" y="152352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71A-83D1-4932-BAF4-C3897A72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4017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842440" y="152352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42440" y="398664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4AE3-A80C-489A-BCA2-FAFFC0D9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842440" y="152352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23600" y="3986640"/>
            <a:ext cx="8232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4D50-99DC-4060-9A53-B81F0584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8232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23600" y="3986640"/>
            <a:ext cx="8232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EC12-3545-4D70-B11A-19B316D7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842440" y="152352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23600" y="398664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842440" y="398664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A942-2F7A-4A40-9C67-BACE47F7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2650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07120" y="1523520"/>
            <a:ext cx="2650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190640" y="1523520"/>
            <a:ext cx="2650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23600" y="3986640"/>
            <a:ext cx="2650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407120" y="3986640"/>
            <a:ext cx="2650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7190640" y="3986640"/>
            <a:ext cx="2650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9621-F8C8-4D9B-B559-94F401C5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9AB-3DC4-4E56-9B1F-11F4AC75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4017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42440" y="1523520"/>
            <a:ext cx="4017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41D-69DE-42FA-A967-C506EEF1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68F-BAC7-4DC8-8C7F-8FC0043E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23600" y="228240"/>
            <a:ext cx="823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4EA-9469-4A0F-B2C5-7530C657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842440" y="1523520"/>
            <a:ext cx="4017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23600" y="398664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9DD-E926-4712-8E6F-1ACF1A1D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4017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42440" y="152352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42440" y="398664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EE9-9DC8-4A6C-8F01-EEB0A743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42440" y="1523520"/>
            <a:ext cx="4017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623600" y="3986640"/>
            <a:ext cx="8232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CEF-1B54-409F-80A3-790D628C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685520" cy="6878520"/>
            <a:chOff x="0" y="-9360"/>
            <a:chExt cx="1685520" cy="6878520"/>
          </a:xfrm>
        </p:grpSpPr>
        <p:sp>
          <p:nvSpPr>
            <p:cNvPr id="1" name=""/>
            <p:cNvSpPr/>
            <p:nvPr/>
          </p:nvSpPr>
          <p:spPr>
            <a:xfrm>
              <a:off x="778320" y="3414600"/>
              <a:ext cx="19548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798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1240" y="3414600"/>
              <a:ext cx="397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74160" y="3429000"/>
              <a:ext cx="35064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1240" y="4184640"/>
              <a:ext cx="591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1240" y="4616280"/>
              <a:ext cx="591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1240" y="5024520"/>
              <a:ext cx="591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81240" y="5429160"/>
              <a:ext cx="591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81240" y="5837400"/>
              <a:ext cx="591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16960" y="6242040"/>
              <a:ext cx="45540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81240" y="3755880"/>
              <a:ext cx="591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1240" y="3414600"/>
              <a:ext cx="594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8320" y="-4680"/>
              <a:ext cx="19548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798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81240" y="-4680"/>
              <a:ext cx="397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74160" y="-4680"/>
              <a:ext cx="3506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81240" y="789120"/>
              <a:ext cx="591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1240" y="1197000"/>
              <a:ext cx="591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81240" y="1603440"/>
              <a:ext cx="591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81240" y="2009880"/>
              <a:ext cx="591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81240" y="2416320"/>
              <a:ext cx="591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76200" y="6632640"/>
              <a:ext cx="59940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81240" y="334800"/>
              <a:ext cx="591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1240" y="-4680"/>
              <a:ext cx="594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4840" y="-9360"/>
              <a:ext cx="26460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1240" y="2851200"/>
              <a:ext cx="591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324800" y="0"/>
              <a:ext cx="36072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31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10808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623600" y="152352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568520" y="6366960"/>
            <a:ext cx="15256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F975-9737-4B9E-A384-1145B2406314}" type="datetime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4595760" y="6342120"/>
            <a:ext cx="21859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8689680" y="6334200"/>
            <a:ext cx="116676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9B63-0D5E-43A4-B31F-8449DF3B8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65320" y="1380600"/>
            <a:ext cx="693576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052440" y="54100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2FFF-1281-454D-9371-8036B1B9D6EE}" type="datetime">
              <a:rPr b="1" lang="en-US" sz="3200" spc="-1" strike="noStrike">
                <a:solidFill>
                  <a:srgbClr val="333300"/>
                </a:solidFill>
                <a:latin typeface="Arial"/>
              </a:rPr>
              <a:t>07/29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4079520" y="631980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7792560" y="6319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C18C-5E3C-4D19-B7F9-7E579391D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0"/>
            <a:ext cx="1685520" cy="6878520"/>
            <a:chOff x="0" y="0"/>
            <a:chExt cx="1685520" cy="6878520"/>
          </a:xfrm>
        </p:grpSpPr>
        <p:sp>
          <p:nvSpPr>
            <p:cNvPr id="76" name=""/>
            <p:cNvSpPr/>
            <p:nvPr/>
          </p:nvSpPr>
          <p:spPr>
            <a:xfrm>
              <a:off x="778320" y="3423960"/>
              <a:ext cx="19548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423960"/>
              <a:ext cx="3798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1240" y="3423960"/>
              <a:ext cx="397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4160" y="3438360"/>
              <a:ext cx="35064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1240" y="4194000"/>
              <a:ext cx="591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240" y="4625640"/>
              <a:ext cx="591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240" y="5033880"/>
              <a:ext cx="591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1240" y="5438520"/>
              <a:ext cx="591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1240" y="5846760"/>
              <a:ext cx="591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6960" y="6251400"/>
              <a:ext cx="45540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240" y="3765240"/>
              <a:ext cx="591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1240" y="3423960"/>
              <a:ext cx="594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8320" y="4680"/>
              <a:ext cx="19548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680"/>
              <a:ext cx="3798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240" y="4680"/>
              <a:ext cx="397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4160" y="4680"/>
              <a:ext cx="3506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240" y="798480"/>
              <a:ext cx="591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1240" y="1206360"/>
              <a:ext cx="591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1240" y="1612800"/>
              <a:ext cx="591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240" y="2019240"/>
              <a:ext cx="591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240" y="2425680"/>
              <a:ext cx="591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6200" y="6642000"/>
              <a:ext cx="59940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1240" y="344160"/>
              <a:ext cx="591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240" y="4680"/>
              <a:ext cx="594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4840" y="0"/>
              <a:ext cx="26460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1240" y="2860560"/>
              <a:ext cx="591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24800" y="9360"/>
              <a:ext cx="36072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1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0808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66640" y="1428840"/>
            <a:ext cx="2269440" cy="2095560"/>
            <a:chOff x="566640" y="1428840"/>
            <a:chExt cx="2269440" cy="2095560"/>
          </a:xfrm>
        </p:grpSpPr>
        <p:sp>
          <p:nvSpPr>
            <p:cNvPr id="106" name=""/>
            <p:cNvSpPr/>
            <p:nvPr/>
          </p:nvSpPr>
          <p:spPr>
            <a:xfrm>
              <a:off x="1675440" y="1428840"/>
              <a:ext cx="116064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66640" y="1610640"/>
              <a:ext cx="1854000" cy="1683360"/>
              <a:chOff x="566640" y="1610640"/>
              <a:chExt cx="1854000" cy="16833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566640" y="1610640"/>
                <a:ext cx="1854000" cy="1683360"/>
                <a:chOff x="566640" y="1610640"/>
                <a:chExt cx="1854000" cy="168336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566640" y="1610640"/>
                  <a:ext cx="1854000" cy="1683360"/>
                  <a:chOff x="566640" y="1610640"/>
                  <a:chExt cx="1854000" cy="16833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571680" y="3032280"/>
                    <a:ext cx="184608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71680" y="1611360"/>
                    <a:ext cx="184608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V="1" rot="5400000">
                    <a:off x="-89640" y="2282400"/>
                    <a:ext cx="1631880" cy="31932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7520 h 319320"/>
                      <a:gd name="textAreaBottom" fmla="*/ 271800 h 319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H="1" flipV="1" rot="16200000">
                    <a:off x="1444680" y="2266560"/>
                    <a:ext cx="1631880" cy="31932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7520 h 319320"/>
                      <a:gd name="textAreaBottom" fmla="*/ 271800 h 319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>
                  <a:off x="743400" y="1763640"/>
                  <a:ext cx="150264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31240" y="1857240"/>
                  <a:ext cx="132732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960120" y="1969920"/>
                  <a:ext cx="106920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72080" y="2068560"/>
                  <a:ext cx="8456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089360" y="2135160"/>
                <a:ext cx="768240" cy="638280"/>
                <a:chOff x="1089360" y="2135160"/>
                <a:chExt cx="768240" cy="638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413000" y="2236680"/>
                  <a:ext cx="11592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420920" y="2236680"/>
                  <a:ext cx="116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71240" y="2689200"/>
                  <a:ext cx="20952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9360" y="2328840"/>
                  <a:ext cx="37980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476000" y="2328840"/>
                  <a:ext cx="38160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424520" y="2135160"/>
                  <a:ext cx="961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65320" y="1380600"/>
            <a:ext cx="693576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IT-compiler voor Pico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68200" y="4123800"/>
            <a:ext cx="69325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ul-Henri Van der Steich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16BE091-1145-4EEC-843F-C617A9C5DD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at is een Jit-compiler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aarom een Jit-compiler voor Pico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oe een Jit-compiler voor Pico?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eds gedaa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aar ben ik mee bezig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at zal ik nog doe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2B688-90B8-4022-AF6A-771B0790D7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een Jit-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Just-in-time compil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de compileren als je deze nodig hebt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nelheidswins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D068F-325E-4E52-B0D0-334D3980F6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arom een Jit-compiler voor P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ico is een VM (virtual machine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 willen van Pico een RVM maken (reflective virtual machine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Arial"/>
              </a:rPr>
              <a:t>≈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eta circulai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 definitie traa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ze traagheid van de RVM kunnen we oplossen door Jit-compilati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19E06-2840-4BB5-9FC2-F20D46E3C9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e een Jit-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t idee : We schrijven code in Pico en we zetten deze “just in time” om naar c-code (c-code = portable)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enmaal we dat hebben, waarom dan nog C-code produceren. We maken gebruik van een mini-kernel en voegen alles toe wat we nodig hebbe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erst een Pico-versie, later een in C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83273-FF1C-4964-B5EE-F8E2FEB2FC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e een Jit-compiler (c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erst gaan we proberen de natives door te compilere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de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atives zijn representatief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Voor optimalisatiedoeleinden (combinaties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g steeds eerst in Pico daarna in C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58861-6663-471C-A015-066F6F4CB3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reidi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werken in Pico en zijn cod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 parser in Pico geschreven                  (Debugging-tool voor later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Leren spelen met Nativ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aculteit toegevoeg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ibonaci toegevoeg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yadd toegevoegd (een test nativ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CFCDB-8166-4D24-A5A8-8DE859F54E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idige vorderi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23600" y="152352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rmaat zoeken om natives voor te stelle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ative in dit formaat doorcompileren naar C-cod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gelijk omdat de kern van een native klein is, alles er rond is maar ter controle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od aan types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aar continuaties splitsen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33C9B-B44E-4BE9-8AAF-312B555444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23600" y="22824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ekom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23600" y="137124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atives doorcompilere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ls een native werkt zal de rest wel snel volgen (hopelijk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binaties mogelijk make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a de borg-versie een C-versie klaarstome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F8CB5-775C-40EF-837E-50D041931E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4:00:31Z</dcterms:created>
  <dc:creator>ig</dc:creator>
  <dc:description/>
  <dc:language>en-US</dc:language>
  <cp:lastModifiedBy>Verspecht Dimitri</cp:lastModifiedBy>
  <cp:lastPrinted>2001-10-25T14:37:48Z</cp:lastPrinted>
  <dcterms:modified xsi:type="dcterms:W3CDTF">2001-10-25T22:40:21Z</dcterms:modified>
  <cp:revision>10</cp:revision>
  <dc:subject/>
  <dc:title>JIT-compiler voor Pico</dc:title>
</cp:coreProperties>
</file>